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1010-05DC-4C59-9DB7-49C874F7E2A5}" type="slidenum">
              <a:rPr b="0" lang="sr-Latn-C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77E2-CE01-410D-9DC2-4C33A7810A1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63D4-1C3D-4BD2-AE72-A0D1FF73B2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AFD5-9E18-4B2F-A27D-64E8609DD21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497120" cy="3373200"/>
          </a:xfrm>
          <a:prstGeom prst="rect">
            <a:avLst/>
          </a:prstGeom>
          <a:ln w="0">
            <a:noFill/>
          </a:ln>
        </p:spPr>
      </p:sp>
      <p:grpSp>
        <p:nvGrpSpPr>
          <p:cNvPr id="252" name="Group 3"/>
          <p:cNvGrpSpPr/>
          <p:nvPr/>
        </p:nvGrpSpPr>
        <p:grpSpPr>
          <a:xfrm>
            <a:off x="4564080" y="392040"/>
            <a:ext cx="1351080" cy="307080"/>
            <a:chOff x="4564080" y="392040"/>
            <a:chExt cx="1351080" cy="307080"/>
          </a:xfrm>
        </p:grpSpPr>
        <p:sp>
          <p:nvSpPr>
            <p:cNvPr id="253" name="Text Box 4"/>
            <p:cNvSpPr/>
            <p:nvPr/>
          </p:nvSpPr>
          <p:spPr>
            <a:xfrm>
              <a:off x="4694040" y="419760"/>
              <a:ext cx="984960" cy="2426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5040" rIns="93960" tIns="92520" bIns="92520" anchor="t">
              <a:spAutoFit/>
            </a:bodyPr>
            <a:p>
              <a:pPr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38160"/>
                  <a:tab algn="l" pos="1876320"/>
                  <a:tab algn="l" pos="2814480"/>
                  <a:tab algn="l" pos="3753000"/>
                  <a:tab algn="l" pos="4691160"/>
                  <a:tab algn="l" pos="5629320"/>
                  <a:tab algn="l" pos="6567480"/>
                  <a:tab algn="l" pos="7505640"/>
                  <a:tab algn="l" pos="8443800"/>
                  <a:tab algn="l" pos="9381960"/>
                  <a:tab algn="l" pos="10320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Text Box 5"/>
            <p:cNvSpPr/>
            <p:nvPr/>
          </p:nvSpPr>
          <p:spPr>
            <a:xfrm>
              <a:off x="4564080" y="39204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5040" rIns="93960" tIns="92520" bIns="9252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38160"/>
                  <a:tab algn="l" pos="1876320"/>
                  <a:tab algn="l" pos="2814480"/>
                  <a:tab algn="l" pos="3753000"/>
                  <a:tab algn="l" pos="4691160"/>
                  <a:tab algn="l" pos="5629320"/>
                  <a:tab algn="l" pos="6567480"/>
                  <a:tab algn="l" pos="7505640"/>
                  <a:tab algn="l" pos="8443800"/>
                  <a:tab algn="l" pos="9381960"/>
                  <a:tab algn="l" pos="10320480"/>
                </a:tabLst>
              </a:pPr>
              <a:r>
                <a:rPr b="0" lang="en-CA" sz="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SHORT  VERSION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470E-A2D9-4130-9876-7B341C23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115B-A1AA-49EF-9FF4-37F6B87F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C8AF-A064-416D-ACCA-14237AFD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A0DC-38F4-4C65-8DBF-A0CC4D55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B59B-0B75-4604-830B-940B4782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C561-AE65-494F-BA00-293B84AE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41B-1722-4328-A8C9-C0B49381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B3E0-9F4E-40B3-990C-2C4C5FD7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7910-98B0-403B-B912-AEFD1112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56CE-2277-4962-AC68-E5EA5554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E893-435E-4FF0-B001-6172FDDD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951F-3008-4F3D-A4E2-46BD2179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5F12-F532-4004-BF30-40D42140C6F2}" type="slidenum">
              <a:rPr b="0" lang="pt-P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ds.yahoo.com/S=96062857/K=belt/v=2/SID=w/TID=I999_73/l=II/R=1/SS=i/OID=72c6b33a3c0b99d8/SIG=1mqh8cvuu/EXP=1130962749/*-http%3A//images.search.yahoo.com/search/images/view?back=http%3A%2F%2Fimages.search.yahoo.com%2Fsearch%2Fimages%3F_adv_prop%3Dimages%26imgsz%3Dall%26imgc%3D%26vf%3Dall%26va%3Dbelt%26fr%3Dslv1-%26ei%3DUTF-8&amp;h=364&amp;w=500&amp;imgcurl=www.magnet-eze.com.au%2Fimages%2FAll_Products_Gallery_500%2Fimages%2FLeather_Belt_Mens.jpg&amp;imgurl=www.magnet-eze.com.au%2Fimages%2FAll_Products_Gallery_500%2Fimages%2FLeather_Belt_Mens.jpg&amp;size=71.3kB&amp;name=Leather_Belt_Mens.jpg&amp;rcurl=http%3A%2F%2Fwww.magnet-eze.com.au%2Fimages%2FAll_Products_Gallery_500%2Fpages%2FLeather_Belt_Mens.htm&amp;rurl=http%3A%2F%2Fwww.magnet-eze.com.au%2Fimages%2FAll_Products_Gallery_500%2Fpages%2FLeather_Belt_Mens.htm&amp;p=belt&amp;type=jpeg&amp;no=1&amp;tt=495,964&amp;ei=UTF-8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ds.yahoo.com/S=96062857/K=psycho/v=2/SID=w/TID=I999_73/l=II/R=26/SS=i/OID=1ea34c79e2a63a96/SIG=1hh69r5lo/EXP=1131033274/*-http%3A//images.search.yahoo.com/search/images/view?back=http%3A%2F%2Fimages.search.yahoo.com%2Fsearch%2Fimages%3F_adv_prop%3Dimages%26imgsz%3Dall%26vf%3Dall%26va%3Dpsycho%26ei%3DUTF-8%26fr%3Dslv1-%26b%3D21&amp;h=243&amp;w=284&amp;imgcurl=www.kprf.ru%2Fclipart%2Fmisc%2Fpsycho.jpg&amp;imgurl=www.kprf.ru%2Fclipart%2Fmisc%2Fpsycho.jpg&amp;size=12.6kB&amp;name=psycho.jpg&amp;rcurl=http%3A%2F%2F44141.rapidforum.com%2Ftopic%3D100181254283%26startid%3D2&amp;rurl=http%3A%2F%2F44141.rapidforum.com%2Ftopic%3D100181254283%26startid%3D2&amp;p=psycho&amp;type=jpeg&amp;no=26&amp;tt=102,881&amp;ei=UTF-8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НИВЕРЗИТЕТ У КРАГУЈЕВЦУ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1800"/>
            </a:br>
            <a:r>
              <a:rPr b="1" lang="sr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КУЛТЕТ МЕДИЦИНСКИХ НАУКА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сихичке фун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ф. др Горан Михајлови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90560" cy="12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ји п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280" y="4869000"/>
            <a:ext cx="475308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спитивање -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Burdon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овим или Pieron-Toulouse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овим тес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11280" y="1600200"/>
          <a:ext cx="8075520" cy="2602080"/>
        </p:xfrm>
        <a:graphic>
          <a:graphicData uri="http://schemas.openxmlformats.org/drawingml/2006/table">
            <a:tbl>
              <a:tblPr/>
              <a:tblGrid>
                <a:gridCol w="1657080"/>
                <a:gridCol w="1656000"/>
                <a:gridCol w="2519280"/>
                <a:gridCol w="2243160"/>
              </a:tblGrid>
              <a:tr h="5997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рем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ћ</a:t>
                      </a: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ји п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ж</a:t>
                      </a: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ипови расеја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НАЦИТ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ГИЛ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ЗИОЛ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Ш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АТОЛ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Ш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⁭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800080"/>
                          </a:solidFill>
                          <a:latin typeface="Book Antiqua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“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ејани на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ч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ик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прес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800080"/>
                          </a:solidFill>
                          <a:latin typeface="Book Antiqua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⁭⁭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“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ејани 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ч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ник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н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Rectangle 4"/>
          <p:cNvSpPr/>
          <p:nvPr/>
        </p:nvSpPr>
        <p:spPr>
          <a:xfrm>
            <a:off x="0" y="58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4481640" y="5630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6" descr="imagen2"/>
          <p:cNvPicPr/>
          <p:nvPr/>
        </p:nvPicPr>
        <p:blipFill>
          <a:blip r:embed="rId1"/>
          <a:stretch/>
        </p:blipFill>
        <p:spPr>
          <a:xfrm>
            <a:off x="5292720" y="4437000"/>
            <a:ext cx="25923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ОП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000" y="1773360"/>
            <a:ext cx="828036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Оп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њ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псих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а функција којом се по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 препознавање информације, њене употребне вредности и ње као цели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УЛНО САЗНАЊЕ – посредством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ула се одр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вају предмети и појаве објективне реал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У психо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сензорним центентри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оре мозг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сједи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вање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О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(субјективна одр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вања реалнос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са ПСИХ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ИМ ИСКУСТВ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(ЕНГРАМИМА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ОП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Ј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5" descr="agnosia"/>
          <p:cNvPicPr/>
          <p:nvPr/>
        </p:nvPicPr>
        <p:blipFill>
          <a:blip r:embed="rId1"/>
          <a:stretch/>
        </p:blipFill>
        <p:spPr>
          <a:xfrm>
            <a:off x="6227640" y="4149720"/>
            <a:ext cx="22320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ји оп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600200"/>
            <a:ext cx="4475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ГНОЗИЈЕ (оп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, аку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, тактилне, симултане, анозогнозије, аутотопагноз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ИЛУЗИЈЕ (услед неп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ње, дејства афеката или навика, пареидол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ХАЛУЦИНАЦИЈЕ (аку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, оп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, екстракампне, тактилне, ценесте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, густативне, олфактивне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3357720"/>
            <a:ext cx="1190880" cy="8665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5076720" y="4869000"/>
            <a:ext cx="1224000" cy="865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6443640" y="37893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6516720" y="530064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4" descr="i_serpent"/>
          <p:cNvPicPr/>
          <p:nvPr/>
        </p:nvPicPr>
        <p:blipFill>
          <a:blip r:embed="rId3"/>
          <a:stretch/>
        </p:blipFill>
        <p:spPr>
          <a:xfrm>
            <a:off x="7308720" y="3344760"/>
            <a:ext cx="1181160" cy="876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i_serpent"/>
          <p:cNvPicPr/>
          <p:nvPr/>
        </p:nvPicPr>
        <p:blipFill>
          <a:blip r:embed="rId4"/>
          <a:stretch/>
        </p:blipFill>
        <p:spPr>
          <a:xfrm>
            <a:off x="7308720" y="4857840"/>
            <a:ext cx="1181160" cy="876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" descr="Agnosia"/>
          <p:cNvPicPr/>
          <p:nvPr/>
        </p:nvPicPr>
        <p:blipFill>
          <a:blip r:embed="rId5"/>
          <a:stretch/>
        </p:blipFill>
        <p:spPr>
          <a:xfrm>
            <a:off x="6094440" y="1700280"/>
            <a:ext cx="13572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оремећаји опаж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алуцинозни феномени – халуцинаторни садржај има одлике телесности, суд реалности – негатив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есто претходе правим халуцинациј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склопу алкохолних психоза – алкохолна халуцино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ИТНО: разлика између халуцинација, илузија и псеудохалуцинациј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М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ЉЕ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066920" y="1596600"/>
            <a:ext cx="4608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Ми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љење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ЛОГ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 САЗН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л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и удовољењу био-социјалних и сазнајних потреб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о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спресиј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ГОВО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НКРЕТНО и АПСТРАКТНО (кор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ћ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ење мисаоних операција – анализа, синтеза, компарација, апстракција, конкретизација, индукција, дедукциј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реативно м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љење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трој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ка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форму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(об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њење, предви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ање, инвенција – откр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етири фазе (“игра идеја”, инкубације, илуминација, верификација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7" descr="thinker%20rodin"/>
          <p:cNvPicPr/>
          <p:nvPr/>
        </p:nvPicPr>
        <p:blipFill>
          <a:blip r:embed="rId1"/>
          <a:stretch/>
        </p:blipFill>
        <p:spPr>
          <a:xfrm>
            <a:off x="755640" y="1773360"/>
            <a:ext cx="274320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ји м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ље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55280" y="1600200"/>
            <a:ext cx="4753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аји 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љења по форм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атол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а о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ирно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убрзан и успорен мисаони т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мутиз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расуло мис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инкохерентно 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љењ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ерсеверациј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вербигерациј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неологиз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аји 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љења по сад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ају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рецењене иде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рисилне иде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сумануте иде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7" descr="thinking"/>
          <p:cNvPicPr/>
          <p:nvPr/>
        </p:nvPicPr>
        <p:blipFill>
          <a:blip r:embed="rId1"/>
          <a:stretch/>
        </p:blipFill>
        <p:spPr>
          <a:xfrm>
            <a:off x="5618160" y="1989000"/>
            <a:ext cx="28875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Сумануте иде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611280" y="1628640"/>
            <a:ext cx="2305080" cy="4105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Ч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ИН НАСТАН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Интуитив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Интерпретатив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Имагинатор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Халуцинатор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3492360" y="1628640"/>
            <a:ext cx="2159280" cy="165600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Парано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ч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Параноид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492360" y="3716280"/>
            <a:ext cx="2159280" cy="25210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САДР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АЈ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Персекуциј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Љубом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Еротоманиј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Експанзивно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Депресивно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Религиозно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10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2368440"/>
            <a:ext cx="1871640" cy="1600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2" descr="Go to fullsize image"/>
          <p:cNvPicPr/>
          <p:nvPr/>
        </p:nvPicPr>
        <p:blipFill>
          <a:blip r:embed="rId3"/>
          <a:stretch/>
        </p:blipFill>
        <p:spPr>
          <a:xfrm>
            <a:off x="6084720" y="3716280"/>
            <a:ext cx="2016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宋体"/>
              </a:rPr>
              <a:t>ПАМЋЕЊ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599840"/>
            <a:ext cx="86868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alibri"/>
              </a:rPr>
              <a:t>Памћење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својство индивидуе да одре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ене информациј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фиксира (стварањем енграма у ЦНС-у), задржи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препозна и, по потреби, репродукуј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Фазе памћењ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фиксирање (упамћивање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задржавање (ретенција)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препознавање (рекогниција) 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репродукција (екфорисање)                 Код посебних облика пам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ења (учење) 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Ултракратко и  кратко претходе трајном памћењу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Трајно памћење -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активира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постсинаптичких структура које синтетишу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нуклеинске киселине (пре свега RNA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астају биохемијске промене у НС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pt-PT" sz="1600" spc="-1" strike="noStrike">
                <a:solidFill>
                  <a:srgbClr val="000000"/>
                </a:solidFill>
                <a:latin typeface="Calibri"/>
              </a:rPr>
              <a:t>енграми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005080" y="4653360"/>
            <a:ext cx="38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МЕХАНИЗАМ  ПАМЋЕЊА У ФУНКЦИЈИ ВРЕМЕ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075280" y="4941720"/>
          <a:ext cx="4068720" cy="1098720"/>
        </p:xfrm>
        <a:graphic>
          <a:graphicData uri="http://schemas.openxmlformats.org/drawingml/2006/table">
            <a:tbl>
              <a:tblPr/>
              <a:tblGrid>
                <a:gridCol w="1828800"/>
                <a:gridCol w="979560"/>
                <a:gridCol w="1260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ФАЗЕ ПАМЋЕ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ВР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МЕХАНИЗ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Ултракрат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 1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Биоелектрич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Крат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 – 20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Биоелектрич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Трај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 20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Биохемијс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Line 83"/>
          <p:cNvSpPr/>
          <p:nvPr/>
        </p:nvSpPr>
        <p:spPr>
          <a:xfrm flipH="1">
            <a:off x="4066920" y="371628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86" descr="1memory"/>
          <p:cNvPicPr/>
          <p:nvPr/>
        </p:nvPicPr>
        <p:blipFill>
          <a:blip r:embed="rId1"/>
          <a:stretch/>
        </p:blipFill>
        <p:spPr>
          <a:xfrm>
            <a:off x="6335640" y="1700280"/>
            <a:ext cx="28083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宋体"/>
              </a:rPr>
              <a:t>У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Ч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宋体"/>
              </a:rPr>
              <a:t>Е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5560" y="1887120"/>
            <a:ext cx="85071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Учење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активно упамћива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блик трајног памћењ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онављање одр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них садржај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ци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да се они упам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М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 се учит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механичк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условљавањем и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по моделу “покушај и грешка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5" descr="LEARNING"/>
          <p:cNvPicPr/>
          <p:nvPr/>
        </p:nvPicPr>
        <p:blipFill>
          <a:blip r:embed="rId1"/>
          <a:stretch/>
        </p:blipFill>
        <p:spPr>
          <a:xfrm>
            <a:off x="5775480" y="3487680"/>
            <a:ext cx="2325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宋体"/>
              </a:rPr>
              <a:t>Поремећаји памћењ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вантитативн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ff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99cc"/>
                </a:solidFill>
                <a:latin typeface="Calibri"/>
              </a:rPr>
              <a:t>Амнез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Хипомнез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Хипермнез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валитативни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Аломнезиј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(“илу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ије пам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ења”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Псеудореминисценц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Псеудоамнезиј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(“халуцинације пам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ења”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Псеудологија фантаст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Конфабулац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Парамнез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146840" y="3501000"/>
            <a:ext cx="484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ПАТОГНОМОНИ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Ч</a:t>
            </a:r>
            <a:r>
              <a:rPr b="0" lang="pt-PT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НОСТ КВАЛИТАТИВНИХ ИЗМЕНА ПАМЋЕЊ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851280" y="3832200"/>
          <a:ext cx="5257800" cy="1770120"/>
        </p:xfrm>
        <a:graphic>
          <a:graphicData uri="http://schemas.openxmlformats.org/drawingml/2006/table">
            <a:tbl>
              <a:tblPr/>
              <a:tblGrid>
                <a:gridCol w="1873080"/>
                <a:gridCol w="1872000"/>
                <a:gridCol w="1512720"/>
              </a:tblGrid>
              <a:tr h="39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Квалитативне измене пам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ћ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ењ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Психопатoло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ш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ки феномe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Физиоло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ш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ки феноме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Аломнезије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Псеудореминисценц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Псеудоамнез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Конфабулац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Псеудологија фантасти</a:t>
                      </a: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к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а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AutoShape 124"/>
          <p:cNvSpPr/>
          <p:nvPr/>
        </p:nvSpPr>
        <p:spPr>
          <a:xfrm>
            <a:off x="2411280" y="1844640"/>
            <a:ext cx="6481800" cy="1368360"/>
          </a:xfrm>
          <a:prstGeom prst="leftArrow">
            <a:avLst>
              <a:gd name="adj1" fmla="val 44250"/>
              <a:gd name="adj2" fmla="val 1184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ретроградне, антероградне, конградне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ретро-антероградне, психоген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Псих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к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иво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овека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- Псих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ке фун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9" descr="physiology_withpsychology_c"/>
          <p:cNvPicPr/>
          <p:nvPr/>
        </p:nvPicPr>
        <p:blipFill>
          <a:blip r:embed="rId1"/>
          <a:stretch/>
        </p:blipFill>
        <p:spPr>
          <a:xfrm>
            <a:off x="179280" y="2060640"/>
            <a:ext cx="1149480" cy="1150920"/>
          </a:xfrm>
          <a:prstGeom prst="rect">
            <a:avLst/>
          </a:prstGeom>
          <a:ln w="0">
            <a:noFill/>
          </a:ln>
        </p:spPr>
      </p:pic>
      <p:sp>
        <p:nvSpPr>
          <p:cNvPr id="53" name="Oval 20"/>
          <p:cNvSpPr/>
          <p:nvPr/>
        </p:nvSpPr>
        <p:spPr>
          <a:xfrm>
            <a:off x="4068720" y="1557360"/>
            <a:ext cx="4824360" cy="4680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СВЕ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Oval 21"/>
          <p:cNvSpPr/>
          <p:nvPr/>
        </p:nvSpPr>
        <p:spPr>
          <a:xfrm>
            <a:off x="5508720" y="1844640"/>
            <a:ext cx="1008000" cy="1008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П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њ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Oval 22"/>
          <p:cNvSpPr/>
          <p:nvPr/>
        </p:nvSpPr>
        <p:spPr>
          <a:xfrm>
            <a:off x="5221440" y="4797360"/>
            <a:ext cx="1079280" cy="108108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Пам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ћ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ењ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Oval 23"/>
          <p:cNvSpPr/>
          <p:nvPr/>
        </p:nvSpPr>
        <p:spPr>
          <a:xfrm>
            <a:off x="7524720" y="4076640"/>
            <a:ext cx="107964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Емоциј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Oval 24"/>
          <p:cNvSpPr/>
          <p:nvPr/>
        </p:nvSpPr>
        <p:spPr>
          <a:xfrm>
            <a:off x="6732720" y="1916280"/>
            <a:ext cx="1008000" cy="108108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Наго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Oval 35"/>
          <p:cNvSpPr/>
          <p:nvPr/>
        </p:nvSpPr>
        <p:spPr>
          <a:xfrm>
            <a:off x="4427640" y="2637000"/>
            <a:ext cx="1008000" cy="1079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Оп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ањ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Oval 36"/>
          <p:cNvSpPr/>
          <p:nvPr/>
        </p:nvSpPr>
        <p:spPr>
          <a:xfrm>
            <a:off x="7667640" y="2924280"/>
            <a:ext cx="934920" cy="936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Вољ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Oval 37"/>
          <p:cNvSpPr/>
          <p:nvPr/>
        </p:nvSpPr>
        <p:spPr>
          <a:xfrm>
            <a:off x="6516720" y="4941720"/>
            <a:ext cx="1224000" cy="1008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Интелигенциј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Oval 38"/>
          <p:cNvSpPr/>
          <p:nvPr/>
        </p:nvSpPr>
        <p:spPr>
          <a:xfrm>
            <a:off x="4356000" y="3933720"/>
            <a:ext cx="1008000" cy="10080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М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ш</a:t>
            </a: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љењ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Text Box 41"/>
          <p:cNvSpPr/>
          <p:nvPr/>
        </p:nvSpPr>
        <p:spPr>
          <a:xfrm>
            <a:off x="1692360" y="3068640"/>
            <a:ext cx="295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96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1" lang="pt-PT" sz="9600" spc="-1" strike="noStrike">
                <a:solidFill>
                  <a:srgbClr val="000000"/>
                </a:solidFill>
                <a:latin typeface="Lucida Sans Unicode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" name="Picture 43" descr="psychology1"/>
          <p:cNvPicPr/>
          <p:nvPr/>
        </p:nvPicPr>
        <p:blipFill>
          <a:blip r:embed="rId2"/>
          <a:stretch/>
        </p:blipFill>
        <p:spPr>
          <a:xfrm>
            <a:off x="179280" y="3500280"/>
            <a:ext cx="1158840" cy="122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5" descr="Psychology_BSc"/>
          <p:cNvPicPr/>
          <p:nvPr/>
        </p:nvPicPr>
        <p:blipFill>
          <a:blip r:embed="rId3"/>
          <a:stretch/>
        </p:blipFill>
        <p:spPr>
          <a:xfrm>
            <a:off x="179280" y="5011560"/>
            <a:ext cx="1152720" cy="1297080"/>
          </a:xfrm>
          <a:prstGeom prst="rect">
            <a:avLst/>
          </a:prstGeom>
          <a:ln w="0">
            <a:noFill/>
          </a:ln>
        </p:spPr>
      </p:pic>
      <p:sp>
        <p:nvSpPr>
          <p:cNvPr id="65" name="Line 49"/>
          <p:cNvSpPr/>
          <p:nvPr/>
        </p:nvSpPr>
        <p:spPr>
          <a:xfrm>
            <a:off x="1476360" y="162864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Line 50"/>
          <p:cNvSpPr/>
          <p:nvPr/>
        </p:nvSpPr>
        <p:spPr>
          <a:xfrm>
            <a:off x="1476360" y="6308640"/>
            <a:ext cx="73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4400" spc="-1" strike="noStrike">
                <a:solidFill>
                  <a:srgbClr val="000000"/>
                </a:solidFill>
                <a:latin typeface="Calibri"/>
                <a:ea typeface="宋体"/>
              </a:rPr>
              <a:t>ИНТЕЛИГЕНЦИЈА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-С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пособност уви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ања односа изме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у ствари и појав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особност решавања нових проблема и сналажења у новим ситуацијам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ател: “Интелигенција је способност учења, мишљења и прилаго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авања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Спирман: “Интелигенцију чини један основни, »G« и висе специфичних фактора, »S«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Торндјак: “Поједине специфичности чине глобалну интелектуалну способност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Питања егземинатора за процену интелигенције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 индивидуалн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Оријентири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 испитаниково животно доба, степен обра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овања и социјални статус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ватификује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се 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 количником интелигенције: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800" spc="-1" strike="noStrike">
                <a:solidFill>
                  <a:srgbClr val="800080"/>
                </a:solidFill>
                <a:latin typeface="Calibri"/>
              </a:rPr>
              <a:t>QI= УМНИ УЗРАСТ/ХРОНОЛО</a:t>
            </a:r>
            <a:r>
              <a:rPr b="1" lang="en-US" sz="1800" spc="-1" strike="noStrike">
                <a:solidFill>
                  <a:srgbClr val="800080"/>
                </a:solidFill>
                <a:latin typeface="Calibri"/>
                <a:ea typeface="Tahoma"/>
              </a:rPr>
              <a:t>ШКИ УЗРАСТ </a:t>
            </a:r>
            <a:r>
              <a:rPr b="1" lang="es-GT" sz="1800" spc="-1" strike="noStrike">
                <a:solidFill>
                  <a:srgbClr val="800080"/>
                </a:solidFill>
                <a:latin typeface="Calibri"/>
              </a:rPr>
              <a:t>x 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000000"/>
                </a:solidFill>
                <a:latin typeface="Calibri"/>
              </a:rPr>
              <a:t>ДЕФИЦИТИ ИНТЕЛИГЕНЦИЈЕ: </a:t>
            </a:r>
            <a:br>
              <a:rPr sz="2800"/>
            </a:br>
            <a:r>
              <a:rPr b="0" lang="es-GT" sz="2800" spc="-1" strike="noStrike">
                <a:solidFill>
                  <a:srgbClr val="000000"/>
                </a:solidFill>
                <a:latin typeface="Calibri"/>
              </a:rPr>
              <a:t>МЕНТАЛНЕ РЕТАРДАЦИЈЕ И ДЕМЕН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Француски психијатар Esquirol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GT" sz="16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i="1" lang="es-GT" sz="1600" spc="-1" strike="noStrike">
                <a:solidFill>
                  <a:srgbClr val="000000"/>
                </a:solidFill>
                <a:latin typeface="Calibri"/>
              </a:rPr>
              <a:t>Дементном човеку је ускра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i="1" lang="es-GT" sz="1600" spc="-1" strike="noStrike">
                <a:solidFill>
                  <a:srgbClr val="000000"/>
                </a:solidFill>
                <a:latin typeface="Calibri"/>
              </a:rPr>
              <a:t>ено добро које је некада имао – он је богаташ који је осиромашио, а олигофрен  одувек живи у сиромаштву – он никада није био богат.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348000" y="2826360"/>
            <a:ext cx="208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МЕНТАЛНЕ РЕТАРДАЦИЈ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484360" y="3429000"/>
          <a:ext cx="3643560" cy="1555920"/>
        </p:xfrm>
        <a:graphic>
          <a:graphicData uri="http://schemas.openxmlformats.org/drawingml/2006/table">
            <a:tbl>
              <a:tblPr/>
              <a:tblGrid>
                <a:gridCol w="1822680"/>
                <a:gridCol w="182088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Степен менталне ретардац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Коефицијент интелигенције (Q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Ла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</a:t>
                      </a: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од 50 до 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Умер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</a:t>
                      </a: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од 35 до 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Те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ш</a:t>
                      </a: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</a:t>
                      </a: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од 20 до 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Дуб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 </a:t>
                      </a: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испод 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143"/>
          <p:cNvSpPr/>
          <p:nvPr/>
        </p:nvSpPr>
        <p:spPr>
          <a:xfrm>
            <a:off x="2556000" y="5234040"/>
            <a:ext cx="3427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ИСПИТИВАЊЕ интелектуалног дефицита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1. Анализа говор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. “Мали клинички тест интелигенције”,  оцењује информисаност, нумеричка спретност, способност апстрактног мишљења …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Спектрум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демен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521160" y="1538280"/>
            <a:ext cx="1619280" cy="307080"/>
          </a:xfrm>
          <a:prstGeom prst="rect">
            <a:avLst/>
          </a:prstGeom>
          <a:solidFill>
            <a:srgbClr val="c0504d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Нормалн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528480" y="6471360"/>
            <a:ext cx="38325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хттп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://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алзхеимерс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орг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ук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. 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Сајту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је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приступљено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фебруара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 2009. 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године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528480" y="6022800"/>
            <a:ext cx="7859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АБ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Алцхајмеров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болест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;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ВаД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васкуларн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деменциј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;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МС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мултипле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склероз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;</a:t>
            </a:r>
            <a:br>
              <a:rPr sz="1200"/>
            </a:b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ПБ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Паркинсонов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болест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;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ФТД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фронтотемпоралн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деменциј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;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ДЛБ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деменциј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с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Левијевим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телим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3088800" y="2330280"/>
            <a:ext cx="2512440" cy="4093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6ba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Шта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се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овде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догађа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6" name="AutoShape 7"/>
          <p:cNvCxnSpPr>
            <a:stCxn id="182" idx="2"/>
            <a:endCxn id="185" idx="0"/>
          </p:cNvCxnSpPr>
          <p:nvPr/>
        </p:nvCxnSpPr>
        <p:spPr>
          <a:xfrm>
            <a:off x="4330440" y="1852200"/>
            <a:ext cx="14760" cy="478440"/>
          </a:xfrm>
          <a:prstGeom prst="straightConnector1">
            <a:avLst/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sp>
        <p:nvSpPr>
          <p:cNvPr id="187" name="Rectangle 8"/>
          <p:cNvSpPr/>
          <p:nvPr/>
        </p:nvSpPr>
        <p:spPr>
          <a:xfrm>
            <a:off x="631800" y="5427720"/>
            <a:ext cx="107316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Благ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1857240" y="5427720"/>
            <a:ext cx="1073160" cy="307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403152"/>
                </a:solidFill>
                <a:latin typeface="Tahoma"/>
                <a:ea typeface="Arial"/>
              </a:rPr>
              <a:t>Умерен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3076560" y="5427720"/>
            <a:ext cx="2503440" cy="5202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Узнапредовали</a:t>
            </a:r>
            <a:r>
              <a:rPr b="1" lang="hr-HR" sz="1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стадијум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1776240" y="4254480"/>
            <a:ext cx="1235160" cy="668880"/>
          </a:xfrm>
          <a:prstGeom prst="rect">
            <a:avLst/>
          </a:prstGeom>
          <a:solidFill>
            <a:srgbClr val="c0504d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ahoma"/>
                <a:ea typeface="Arial"/>
              </a:rPr>
              <a:t>АБ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ahoma"/>
                <a:ea typeface="Arial"/>
              </a:rPr>
              <a:t>62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AutoShape 12"/>
          <p:cNvCxnSpPr>
            <a:stCxn id="185" idx="2"/>
            <a:endCxn id="192" idx="0"/>
          </p:cNvCxnSpPr>
          <p:nvPr/>
        </p:nvCxnSpPr>
        <p:spPr>
          <a:xfrm flipH="1">
            <a:off x="4330080" y="2739960"/>
            <a:ext cx="14760" cy="478800"/>
          </a:xfrm>
          <a:prstGeom prst="straightConnector1">
            <a:avLst/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sp>
        <p:nvSpPr>
          <p:cNvPr id="193" name="Rectangle 13"/>
          <p:cNvSpPr/>
          <p:nvPr/>
        </p:nvSpPr>
        <p:spPr>
          <a:xfrm>
            <a:off x="5661000" y="4254480"/>
            <a:ext cx="1235160" cy="668880"/>
          </a:xfrm>
          <a:prstGeom prst="rect">
            <a:avLst/>
          </a:prstGeom>
          <a:solidFill>
            <a:srgbClr val="c0504d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ahoma"/>
                <a:ea typeface="Arial"/>
              </a:rPr>
              <a:t>ВаД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ahoma"/>
                <a:ea typeface="Arial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4" name="AutoShape 14"/>
          <p:cNvCxnSpPr>
            <a:stCxn id="192" idx="2"/>
            <a:endCxn id="190" idx="0"/>
          </p:cNvCxnSpPr>
          <p:nvPr/>
        </p:nvCxnSpPr>
        <p:spPr>
          <a:xfrm rot="5400000">
            <a:off x="3031920" y="2955960"/>
            <a:ext cx="660600" cy="1937520"/>
          </a:xfrm>
          <a:prstGeom prst="bentConnector3">
            <a:avLst>
              <a:gd name="adj1" fmla="val 49781"/>
            </a:avLst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cxnSp>
        <p:nvCxnSpPr>
          <p:cNvPr id="195" name="AutoShape 15"/>
          <p:cNvCxnSpPr>
            <a:stCxn id="192" idx="2"/>
            <a:endCxn id="193" idx="0"/>
          </p:cNvCxnSpPr>
          <p:nvPr/>
        </p:nvCxnSpPr>
        <p:spPr>
          <a:xfrm flipH="1" rot="16200000">
            <a:off x="4974480" y="2950200"/>
            <a:ext cx="660600" cy="1948320"/>
          </a:xfrm>
          <a:prstGeom prst="bentConnector3">
            <a:avLst>
              <a:gd name="adj1" fmla="val 49781"/>
            </a:avLst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sp>
        <p:nvSpPr>
          <p:cNvPr id="196" name="Rectangle 16"/>
          <p:cNvSpPr/>
          <p:nvPr/>
        </p:nvSpPr>
        <p:spPr>
          <a:xfrm>
            <a:off x="3713040" y="4254480"/>
            <a:ext cx="1290600" cy="912240"/>
          </a:xfrm>
          <a:prstGeom prst="rect">
            <a:avLst/>
          </a:prstGeom>
          <a:solidFill>
            <a:srgbClr val="c0504d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ahoma"/>
                <a:ea typeface="Arial"/>
              </a:rPr>
              <a:t>Мешовит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ahoma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7" name="AutoShape 17"/>
          <p:cNvCxnSpPr>
            <a:stCxn id="192" idx="2"/>
            <a:endCxn id="196" idx="0"/>
          </p:cNvCxnSpPr>
          <p:nvPr/>
        </p:nvCxnSpPr>
        <p:spPr>
          <a:xfrm>
            <a:off x="4330440" y="3594240"/>
            <a:ext cx="29160" cy="660600"/>
          </a:xfrm>
          <a:prstGeom prst="straightConnector1">
            <a:avLst/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cxnSp>
        <p:nvCxnSpPr>
          <p:cNvPr id="198" name="AutoShape 18"/>
          <p:cNvCxnSpPr>
            <a:stCxn id="190" idx="2"/>
            <a:endCxn id="187" idx="0"/>
          </p:cNvCxnSpPr>
          <p:nvPr/>
        </p:nvCxnSpPr>
        <p:spPr>
          <a:xfrm rot="5400000">
            <a:off x="1532160" y="4566600"/>
            <a:ext cx="497520" cy="1226160"/>
          </a:xfrm>
          <a:prstGeom prst="bentConnector3">
            <a:avLst>
              <a:gd name="adj1" fmla="val 49818"/>
            </a:avLst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cxnSp>
        <p:nvCxnSpPr>
          <p:cNvPr id="199" name="AutoShape 19"/>
          <p:cNvCxnSpPr>
            <a:stCxn id="190" idx="2"/>
            <a:endCxn id="189" idx="0"/>
          </p:cNvCxnSpPr>
          <p:nvPr/>
        </p:nvCxnSpPr>
        <p:spPr>
          <a:xfrm flipH="1" rot="16200000">
            <a:off x="3112200" y="4211640"/>
            <a:ext cx="497520" cy="1935720"/>
          </a:xfrm>
          <a:prstGeom prst="bentConnector3">
            <a:avLst>
              <a:gd name="adj1" fmla="val 49963"/>
            </a:avLst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cxnSp>
        <p:nvCxnSpPr>
          <p:cNvPr id="200" name="AutoShape 20"/>
          <p:cNvCxnSpPr>
            <a:stCxn id="190" idx="2"/>
            <a:endCxn id="188" idx="0"/>
          </p:cNvCxnSpPr>
          <p:nvPr/>
        </p:nvCxnSpPr>
        <p:spPr>
          <a:xfrm>
            <a:off x="2393640" y="4930920"/>
            <a:ext cx="1080" cy="497520"/>
          </a:xfrm>
          <a:prstGeom prst="straightConnector1">
            <a:avLst/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sp>
        <p:nvSpPr>
          <p:cNvPr id="192" name="Rectangle 21"/>
          <p:cNvSpPr/>
          <p:nvPr/>
        </p:nvSpPr>
        <p:spPr>
          <a:xfrm>
            <a:off x="3521160" y="3218040"/>
            <a:ext cx="1619280" cy="36828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Деменциј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22"/>
          <p:cNvSpPr/>
          <p:nvPr/>
        </p:nvSpPr>
        <p:spPr>
          <a:xfrm>
            <a:off x="7156440" y="3062160"/>
            <a:ext cx="581040" cy="307080"/>
          </a:xfrm>
          <a:prstGeom prst="rect">
            <a:avLst/>
          </a:prstGeom>
          <a:solidFill>
            <a:srgbClr val="00467a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МС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23"/>
          <p:cNvSpPr/>
          <p:nvPr/>
        </p:nvSpPr>
        <p:spPr>
          <a:xfrm>
            <a:off x="7799400" y="3062160"/>
            <a:ext cx="660240" cy="307080"/>
          </a:xfrm>
          <a:prstGeom prst="rect">
            <a:avLst/>
          </a:prstGeom>
          <a:solidFill>
            <a:srgbClr val="00467a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ФТД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24"/>
          <p:cNvSpPr/>
          <p:nvPr/>
        </p:nvSpPr>
        <p:spPr>
          <a:xfrm>
            <a:off x="7156440" y="3446640"/>
            <a:ext cx="581040" cy="307080"/>
          </a:xfrm>
          <a:prstGeom prst="rect">
            <a:avLst/>
          </a:prstGeom>
          <a:solidFill>
            <a:srgbClr val="00467a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ПБ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25"/>
          <p:cNvSpPr/>
          <p:nvPr/>
        </p:nvSpPr>
        <p:spPr>
          <a:xfrm>
            <a:off x="7799400" y="3446640"/>
            <a:ext cx="660240" cy="307080"/>
          </a:xfrm>
          <a:prstGeom prst="rect">
            <a:avLst/>
          </a:prstGeom>
          <a:solidFill>
            <a:srgbClr val="00467a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ДЛБ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26"/>
          <p:cNvSpPr/>
          <p:nvPr/>
        </p:nvSpPr>
        <p:spPr>
          <a:xfrm>
            <a:off x="7068960" y="2976480"/>
            <a:ext cx="1419480" cy="370080"/>
          </a:xfrm>
          <a:prstGeom prst="rect">
            <a:avLst/>
          </a:prstGeom>
          <a:noFill/>
          <a:ln w="19080">
            <a:solidFill>
              <a:srgbClr val="91badb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27"/>
          <p:cNvSpPr/>
          <p:nvPr/>
        </p:nvSpPr>
        <p:spPr>
          <a:xfrm>
            <a:off x="7371720" y="261612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Остал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7" name="AutoShape 28"/>
          <p:cNvCxnSpPr>
            <a:stCxn id="192" idx="3"/>
            <a:endCxn id="205" idx="1"/>
          </p:cNvCxnSpPr>
          <p:nvPr/>
        </p:nvCxnSpPr>
        <p:spPr>
          <a:xfrm flipV="1">
            <a:off x="5140080" y="3160080"/>
            <a:ext cx="1929240" cy="246600"/>
          </a:xfrm>
          <a:prstGeom prst="straightConnector1">
            <a:avLst/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ЕМО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1600200"/>
            <a:ext cx="5915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ЕМОЦИЈЕ (lat. 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emotio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= узбу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ење)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специфичан, 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убјективни однос човека према најразли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итијим објект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његовог спољ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ег и унутарњег све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Примери  емоција,  емоционалних реакција: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радост, жалост, бес, страх,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љубав, усхићење, понос, симпатија, брига, злоба,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завист, мржња, стид, понижење ит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Анатомско седиште емоционалног живота човек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лимбички систем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ипоталамус (садржи готове обрасце понашања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тесној вези са хипофизом и вегетативним нервним системо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Због анатомофизиоло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ког супстрата (укљу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ују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и кортикалне ефекте)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емоције се свесно доживљавају, али и манифестују телесним еквивалентима (мимика, гестови,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вегетативне реакције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ва облика манифестација: </a:t>
            </a:r>
            <a:r>
              <a:rPr b="1" lang="pt-PT" sz="1600" spc="-1" strike="noStrike">
                <a:solidFill>
                  <a:srgbClr val="000000"/>
                </a:solidFill>
                <a:latin typeface="Calibri"/>
              </a:rPr>
              <a:t>расположења и афек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7" descr="limbic"/>
          <p:cNvPicPr/>
          <p:nvPr/>
        </p:nvPicPr>
        <p:blipFill>
          <a:blip r:embed="rId1"/>
          <a:stretch/>
        </p:blipFill>
        <p:spPr>
          <a:xfrm>
            <a:off x="6300720" y="1700280"/>
            <a:ext cx="2664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ЕМО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сположење – дуготрајно, релативно трајно и равномерно стање емоциј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фект – краткотрајно, интензивно стање осећања, праћено видљивим телесним манифестациј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фекти: страх, бес, узбуђење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елесне манифестације: укочен поглед, подрхтавање, бледило лица, неправилан говор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宋体"/>
              </a:rPr>
              <a:t>Пореме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宋体"/>
              </a:rPr>
              <a:t>ћаји емоц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вантитативни (од  емоција здравих се разликују интензитетом)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валитативни  феномени (типични за менталне поремећаје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КВАНТИТАТИВНИ ПОРЕМЕЋАЈИ ЕМОЦИЈ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еуфориј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депресиј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апатиј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продужени а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емоционална лабилн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афективна амбиваленциј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КВЛИТАТИВНИ ПОРЕМЕЋАЈИ ЕМОЦИЈ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арамим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паратимиј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дефект емоционалног одн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емоционална безосећајн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атолошки а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Процена расположења и афек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анализ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ом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невербелн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порук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пацијента (соматске манифестациј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приме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ном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одре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метод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(Јунгов тест асоцијација, а за потиснуте емотивне садржаје: психоанализа, Роршахове пројективне технике…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643280" y="1700280"/>
          <a:ext cx="4388040" cy="2292120"/>
        </p:xfrm>
        <a:graphic>
          <a:graphicData uri="http://schemas.openxmlformats.org/drawingml/2006/table">
            <a:tbl>
              <a:tblPr/>
              <a:tblGrid>
                <a:gridCol w="2372040"/>
                <a:gridCol w="201600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GT" sz="1400" spc="-1" strike="noStrike">
                          <a:solidFill>
                            <a:srgbClr val="800080"/>
                          </a:solidFill>
                          <a:latin typeface="Tahoma"/>
                          <a:ea typeface="宋体"/>
                        </a:rPr>
                        <a:t>Психопатолошки феноме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GT" sz="1400" spc="-1" strike="noStrike">
                          <a:solidFill>
                            <a:srgbClr val="800080"/>
                          </a:solidFill>
                          <a:latin typeface="Tahoma"/>
                          <a:ea typeface="宋体"/>
                        </a:rPr>
                        <a:t>Ментални поремећа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Парамим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Схизофрен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Паратим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Схизофрен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Дефект емоционалног одн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Схизофрен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Емоционална (осећајна) безосећајно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Депрес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Патолошки афе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Поремецај личности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псх. имнене  код  еп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Line 87"/>
          <p:cNvSpPr/>
          <p:nvPr/>
        </p:nvSpPr>
        <p:spPr>
          <a:xfrm>
            <a:off x="5940360" y="551664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Line 88"/>
          <p:cNvSpPr/>
          <p:nvPr/>
        </p:nvSpPr>
        <p:spPr>
          <a:xfrm flipV="1">
            <a:off x="6012000" y="436572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Line 89"/>
          <p:cNvSpPr/>
          <p:nvPr/>
        </p:nvSpPr>
        <p:spPr>
          <a:xfrm>
            <a:off x="6012000" y="4437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90"/>
          <p:cNvSpPr/>
          <p:nvPr/>
        </p:nvSpPr>
        <p:spPr>
          <a:xfrm>
            <a:off x="4500720" y="4292640"/>
            <a:ext cx="14396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4f81bd"/>
                </a:solidFill>
                <a:latin typeface="Tahoma"/>
              </a:rPr>
              <a:t>Хипертимиј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ahoma"/>
              </a:rPr>
              <a:t>Еутимиј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66ff"/>
                </a:solidFill>
                <a:latin typeface="Tahoma"/>
              </a:rPr>
              <a:t>Хипотимиј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ahoma"/>
              </a:rPr>
              <a:t>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91"/>
          <p:cNvSpPr/>
          <p:nvPr/>
        </p:nvSpPr>
        <p:spPr>
          <a:xfrm>
            <a:off x="6012000" y="5013360"/>
            <a:ext cx="129672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93"/>
          <p:cNvSpPr/>
          <p:nvPr/>
        </p:nvSpPr>
        <p:spPr>
          <a:xfrm>
            <a:off x="7308720" y="5013360"/>
            <a:ext cx="50328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94"/>
          <p:cNvSpPr/>
          <p:nvPr/>
        </p:nvSpPr>
        <p:spPr>
          <a:xfrm>
            <a:off x="7812000" y="6093000"/>
            <a:ext cx="100800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AutoShape 95"/>
          <p:cNvSpPr/>
          <p:nvPr/>
        </p:nvSpPr>
        <p:spPr>
          <a:xfrm>
            <a:off x="7380360" y="4724280"/>
            <a:ext cx="1476360" cy="576360"/>
          </a:xfrm>
          <a:prstGeom prst="leftArrowCallout">
            <a:avLst>
              <a:gd name="adj1" fmla="val 25002"/>
              <a:gd name="adj2" fmla="val 25000"/>
              <a:gd name="adj3" fmla="val 42692"/>
              <a:gd name="adj4" fmla="val 6667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Еуфориј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Депресиј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AutoShape 96"/>
          <p:cNvSpPr/>
          <p:nvPr/>
        </p:nvSpPr>
        <p:spPr>
          <a:xfrm>
            <a:off x="6300720" y="5805360"/>
            <a:ext cx="1295640" cy="576360"/>
          </a:xfrm>
          <a:prstGeom prst="rightArrowCallout">
            <a:avLst>
              <a:gd name="adj1" fmla="val 25002"/>
              <a:gd name="adj2" fmla="val 25000"/>
              <a:gd name="adj3" fmla="val 37466"/>
              <a:gd name="adj4" fmla="val 6666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Апатиј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4400" spc="-1" strike="noStrike">
                <a:solidFill>
                  <a:srgbClr val="000000"/>
                </a:solidFill>
                <a:latin typeface="Calibri"/>
              </a:rPr>
              <a:t>НАГОНИ И МОТИ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0000"/>
                </a:solidFill>
                <a:latin typeface="Calibri"/>
              </a:rPr>
              <a:t>Нагони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уро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ена тежња особе за одре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еним понашањем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иљ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задовољење потреба организ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0000"/>
                </a:solidFill>
                <a:latin typeface="Calibri"/>
              </a:rPr>
              <a:t>Потреба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енергетска категорија,  кад је усмерена на одре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ени циљ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GT" sz="2000" spc="-1" strike="noStrike">
                <a:solidFill>
                  <a:srgbClr val="000000"/>
                </a:solidFill>
                <a:latin typeface="Calibri"/>
              </a:rPr>
              <a:t>мотив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0000"/>
                </a:solidFill>
                <a:latin typeface="Calibri"/>
              </a:rPr>
              <a:t>Биолошки мотиви (нагони)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ненаучени, уро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ен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зведени мотиви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научени (социј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лн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s-GT" sz="2000" spc="-1" strike="noStrike">
                <a:solidFill>
                  <a:srgbClr val="000000"/>
                </a:solidFill>
                <a:latin typeface="Calibri"/>
              </a:rPr>
              <a:t>нстикти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задовољењ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биоло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ких потреб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ствар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вање: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по типу аутоматизам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разлик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од нагон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Нагон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афективни процес при испољавању инстинктивне радњ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дела нагона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виталн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 и социјалн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дела наг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Calibri"/>
              </a:rPr>
              <a:t>ВИТАЛНИ  НАГОН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s-GT" sz="2400" spc="-1" strike="noStrike">
                <a:solidFill>
                  <a:srgbClr val="000000"/>
                </a:solidFill>
                <a:latin typeface="Calibri"/>
              </a:rPr>
              <a:t>(служе виталној адаптацији човека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1. нагон самоoдржања (за животом и исхраном)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2. нагон одржања врсте (сексуални и родитељск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СОЦИЈАЛНИ  НАГОНИ – МОТИВИ (слу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 социјалној адаптацији човека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1. афилијативни мотив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2. мотив за положајем у друштв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3. мотив сазнањ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4. мотив самоптвр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ивањ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5. алтруистички мотив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5" descr="Pieta"/>
          <p:cNvPicPr/>
          <p:nvPr/>
        </p:nvPicPr>
        <p:blipFill>
          <a:blip r:embed="rId1"/>
          <a:stretch/>
        </p:blipFill>
        <p:spPr>
          <a:xfrm>
            <a:off x="5435640" y="4221000"/>
            <a:ext cx="251928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ћаји наг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634920" y="1557360"/>
            <a:ext cx="519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. ПОРЕМЕЋАЈИ  НАГОНА ЗА ЖИВЉЕЊЕМ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појачање (хиперхормија)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снижење до суицида, предфазе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49920" indent="-3394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суицидална иде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149920" indent="-3394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тенденција 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149920" indent="-3394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тента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мен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ОРЕМЕЋАЈИ НАГОНА ЗА ИСХРАНОМ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ВАНТИTAT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ИВНИ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:            КВАЛИТАТИВН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анорексија                      -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опрофагиј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булимија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антропофаг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авер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ија                          -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некрофаг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полифaгијa                             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вучјa глa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5" descr="anorexia_22"/>
          <p:cNvPicPr/>
          <p:nvPr/>
        </p:nvPicPr>
        <p:blipFill>
          <a:blip r:embed="rId1"/>
          <a:stretch/>
        </p:blipFill>
        <p:spPr>
          <a:xfrm>
            <a:off x="684360" y="2773440"/>
            <a:ext cx="24937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ћаји наг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3. ПОРЕМЕЋАЈИ  СЕКСУАЛНОГ НАГОНА (квантитативни и квалитативн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КВАНТИТАТИВНИ ПОРЕМЕЋАЈИ СЕКСУАЛНОГ НАГО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повишење сексуалног нагона (сатиријаза, нинфоманиј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анеротизам (хипоеротизам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аноргазми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импотенци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ejaculatio preco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КВАЛИТАТИВНИ ПОРЕМЕЋАЈИ СЕКСУАЛНОГ НАГОНА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11280" y="4336920"/>
          <a:ext cx="5616360" cy="2449800"/>
        </p:xfrm>
        <a:graphic>
          <a:graphicData uri="http://schemas.openxmlformats.org/drawingml/2006/table">
            <a:tbl>
              <a:tblPr/>
              <a:tblGrid>
                <a:gridCol w="2808360"/>
                <a:gridCol w="280800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ИНВЕРЗ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 патолошки објек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ПЕРВЕРЗ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настран начин задовољств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2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нарц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бисексуал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педофил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геронтофил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зоофилиј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некрофил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хомосексуалност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специфичнос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мастурбац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педераст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егзибицион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воајер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содом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фетиш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садизам и мазох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трансветитизам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и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метатроп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6" name="Picture 41" descr="Homosexuality"/>
          <p:cNvPicPr/>
          <p:nvPr/>
        </p:nvPicPr>
        <p:blipFill>
          <a:blip r:embed="rId1"/>
          <a:stretch/>
        </p:blipFill>
        <p:spPr>
          <a:xfrm>
            <a:off x="6516720" y="2133720"/>
            <a:ext cx="24336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СВЕ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9640" y="1700280"/>
            <a:ext cx="7777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Свест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сазнање о свеукупном псих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м д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ивљавању у датом тренут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нтегративна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псих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а функц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арактеристике: континуитет и некомуникативнос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У биол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м и физиол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м смисл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степен буд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Појам све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ПРЕДМЕТ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СВЕСТ и СВЕСТ САМОГ СЕБ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У психологиј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доживљај реал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ћаји наг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4. ПОРЕМЕЋАЈ СОЦИЈАЛНИХ МОТИ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ипохорм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синдром (схизофренија, депресија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снижење свих социјалних мотива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афилијативни,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мотиви самопотвр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ивања, сазнања, аутоафирмације, ра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урот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осо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троше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енергије на интрапсихичке конфликт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– снижење социјалне мотива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нтисоцијал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поремећај лицност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патологи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социјалне мотива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ВОЉ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ноги не сматрају посебном психичком функциј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орен у снази нагонског живо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унк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(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односно, особина) све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нергија коју  свесно Ја улаже или у реализацију или у кочење, одлагање, одбацивање сопствене жељ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адње: вољне и невољне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ћаји вољ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68000" y="1125360"/>
            <a:ext cx="80643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Слабост воље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“губитак слободног вољног одлучивања”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од  квалитативни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тећењ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свести, снажн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продукција психотичности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у болестима зависности (психоактивне супстанце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Квантитативне измене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воље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хипобулије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(слабост воље) и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абулије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(губитак воље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Код оболелих од депресије и схизофрениј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Пролазна хипобулија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манифестација замора, несанице, интоксикациј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Сугестибилност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некритично прихватање ставова други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Доцилност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(послушност)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екстремна сугестибилност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ајте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и облик сугестибилности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утоматс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послушнос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Импулзивност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скуп моторних радњи,  којима особ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реагује одмах након стимулуса (који могу бити минорни)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без обраде информације, практично уз изостанак вољ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Могу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извор хетероагресиј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Кататони синдром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скуп психомоторних активност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услед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слабљења вољног утицаја на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понашање оболеле особ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Садрж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хипо и хиперкинетске елемент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Хипокинетске манифестације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(кататони ступор, каталепсиј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стереотипија држања, пасивни негативизам и ехо феномени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Хиперкинетске манифестације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(кататона помам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стеротипија понашања, активни негативизам, маниризам,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бизарност, стереотипија гово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5" descr="Catatonic"/>
          <p:cNvPicPr/>
          <p:nvPr/>
        </p:nvPicPr>
        <p:blipFill>
          <a:blip r:embed="rId1"/>
          <a:stretch/>
        </p:blipFill>
        <p:spPr>
          <a:xfrm>
            <a:off x="6516720" y="2565360"/>
            <a:ext cx="237168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Хвал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7" descr="psychiatry"/>
          <p:cNvPicPr/>
          <p:nvPr/>
        </p:nvPicPr>
        <p:blipFill>
          <a:blip r:embed="rId1"/>
          <a:stretch/>
        </p:blipFill>
        <p:spPr>
          <a:xfrm>
            <a:off x="3203640" y="2116080"/>
            <a:ext cx="475308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ји све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5338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ји свести у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ирем смисл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Дереализ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Деперсонализ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Трансформација 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Аутиз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ји свести у 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м смисл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вантитативни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(синкопа, сомноленција, сопор,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м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валитативн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(с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ења и пом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ења свест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crop%20depersonalization"/>
          <p:cNvPicPr/>
          <p:nvPr/>
        </p:nvPicPr>
        <p:blipFill>
          <a:blip r:embed="rId1"/>
          <a:stretch/>
        </p:blipFill>
        <p:spPr>
          <a:xfrm>
            <a:off x="5867280" y="1844640"/>
            <a:ext cx="28987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Квалитативни порем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аји све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фу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елирију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ментна ст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уновна ст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умрачно ст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омнабулиз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уг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ипноз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6"/>
          <p:cNvSpPr/>
          <p:nvPr/>
        </p:nvSpPr>
        <p:spPr>
          <a:xfrm>
            <a:off x="5867280" y="3860640"/>
            <a:ext cx="2232000" cy="223380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Oval 7"/>
          <p:cNvSpPr/>
          <p:nvPr/>
        </p:nvSpPr>
        <p:spPr>
          <a:xfrm>
            <a:off x="1258920" y="3860640"/>
            <a:ext cx="2232000" cy="223380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Oval 8"/>
          <p:cNvSpPr/>
          <p:nvPr/>
        </p:nvSpPr>
        <p:spPr>
          <a:xfrm>
            <a:off x="6227640" y="4221000"/>
            <a:ext cx="1513080" cy="151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Tahoma"/>
              </a:rPr>
              <a:t>Сумра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ч</a:t>
            </a:r>
            <a:r>
              <a:rPr b="1" lang="pt-PT" sz="1200" spc="-1" strike="noStrike">
                <a:solidFill>
                  <a:srgbClr val="000000"/>
                </a:solidFill>
                <a:latin typeface="Tahoma"/>
              </a:rPr>
              <a:t>на стањ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Tahoma"/>
              </a:rPr>
              <a:t>Сомнабулизам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Tahoma"/>
              </a:rPr>
              <a:t>Фуг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Tahoma"/>
              </a:rPr>
              <a:t>Хипноз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Oval 14"/>
          <p:cNvSpPr/>
          <p:nvPr/>
        </p:nvSpPr>
        <p:spPr>
          <a:xfrm>
            <a:off x="1403280" y="450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Oval 15"/>
          <p:cNvSpPr/>
          <p:nvPr/>
        </p:nvSpPr>
        <p:spPr>
          <a:xfrm>
            <a:off x="2843280" y="4149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Oval 16"/>
          <p:cNvSpPr/>
          <p:nvPr/>
        </p:nvSpPr>
        <p:spPr>
          <a:xfrm>
            <a:off x="1619280" y="4221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Oval 17"/>
          <p:cNvSpPr/>
          <p:nvPr/>
        </p:nvSpPr>
        <p:spPr>
          <a:xfrm>
            <a:off x="1763640" y="5661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Oval 18"/>
          <p:cNvSpPr/>
          <p:nvPr/>
        </p:nvSpPr>
        <p:spPr>
          <a:xfrm>
            <a:off x="1979640" y="580536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Oval 19"/>
          <p:cNvSpPr/>
          <p:nvPr/>
        </p:nvSpPr>
        <p:spPr>
          <a:xfrm>
            <a:off x="2268360" y="414972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Oval 20"/>
          <p:cNvSpPr/>
          <p:nvPr/>
        </p:nvSpPr>
        <p:spPr>
          <a:xfrm>
            <a:off x="1547640" y="5300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Oval 21"/>
          <p:cNvSpPr/>
          <p:nvPr/>
        </p:nvSpPr>
        <p:spPr>
          <a:xfrm>
            <a:off x="1476360" y="47242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Oval 22"/>
          <p:cNvSpPr/>
          <p:nvPr/>
        </p:nvSpPr>
        <p:spPr>
          <a:xfrm>
            <a:off x="2987640" y="450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Oval 23"/>
          <p:cNvSpPr/>
          <p:nvPr/>
        </p:nvSpPr>
        <p:spPr>
          <a:xfrm>
            <a:off x="2771640" y="5516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Oval 24"/>
          <p:cNvSpPr/>
          <p:nvPr/>
        </p:nvSpPr>
        <p:spPr>
          <a:xfrm>
            <a:off x="2411280" y="393372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Oval 25"/>
          <p:cNvSpPr/>
          <p:nvPr/>
        </p:nvSpPr>
        <p:spPr>
          <a:xfrm>
            <a:off x="2627280" y="4076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Oval 26"/>
          <p:cNvSpPr/>
          <p:nvPr/>
        </p:nvSpPr>
        <p:spPr>
          <a:xfrm>
            <a:off x="2987640" y="4797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Oval 27"/>
          <p:cNvSpPr/>
          <p:nvPr/>
        </p:nvSpPr>
        <p:spPr>
          <a:xfrm>
            <a:off x="1908000" y="4076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Oval 28"/>
          <p:cNvSpPr/>
          <p:nvPr/>
        </p:nvSpPr>
        <p:spPr>
          <a:xfrm>
            <a:off x="1763640" y="5445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Oval 29"/>
          <p:cNvSpPr/>
          <p:nvPr/>
        </p:nvSpPr>
        <p:spPr>
          <a:xfrm>
            <a:off x="1835280" y="4292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Oval 30"/>
          <p:cNvSpPr/>
          <p:nvPr/>
        </p:nvSpPr>
        <p:spPr>
          <a:xfrm>
            <a:off x="3276720" y="4797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Oval 31"/>
          <p:cNvSpPr/>
          <p:nvPr/>
        </p:nvSpPr>
        <p:spPr>
          <a:xfrm>
            <a:off x="2484360" y="580536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Oval 32"/>
          <p:cNvSpPr/>
          <p:nvPr/>
        </p:nvSpPr>
        <p:spPr>
          <a:xfrm>
            <a:off x="2195640" y="5877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Oval 33"/>
          <p:cNvSpPr/>
          <p:nvPr/>
        </p:nvSpPr>
        <p:spPr>
          <a:xfrm>
            <a:off x="3203640" y="530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Oval 34"/>
          <p:cNvSpPr/>
          <p:nvPr/>
        </p:nvSpPr>
        <p:spPr>
          <a:xfrm>
            <a:off x="1332000" y="5157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Oval 35"/>
          <p:cNvSpPr/>
          <p:nvPr/>
        </p:nvSpPr>
        <p:spPr>
          <a:xfrm>
            <a:off x="2124000" y="5589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Oval 36"/>
          <p:cNvSpPr/>
          <p:nvPr/>
        </p:nvSpPr>
        <p:spPr>
          <a:xfrm>
            <a:off x="2700360" y="57340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Oval 37"/>
          <p:cNvSpPr/>
          <p:nvPr/>
        </p:nvSpPr>
        <p:spPr>
          <a:xfrm>
            <a:off x="2411280" y="558972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Oval 38"/>
          <p:cNvSpPr/>
          <p:nvPr/>
        </p:nvSpPr>
        <p:spPr>
          <a:xfrm>
            <a:off x="3203640" y="508464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Oval 39"/>
          <p:cNvSpPr/>
          <p:nvPr/>
        </p:nvSpPr>
        <p:spPr>
          <a:xfrm>
            <a:off x="2987640" y="5661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Oval 40"/>
          <p:cNvSpPr/>
          <p:nvPr/>
        </p:nvSpPr>
        <p:spPr>
          <a:xfrm>
            <a:off x="1332000" y="494172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Oval 41"/>
          <p:cNvSpPr/>
          <p:nvPr/>
        </p:nvSpPr>
        <p:spPr>
          <a:xfrm>
            <a:off x="2987640" y="5229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Oval 42"/>
          <p:cNvSpPr/>
          <p:nvPr/>
        </p:nvSpPr>
        <p:spPr>
          <a:xfrm>
            <a:off x="2124000" y="393372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43"/>
          <p:cNvSpPr/>
          <p:nvPr/>
        </p:nvSpPr>
        <p:spPr>
          <a:xfrm>
            <a:off x="1547640" y="5516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Oval 44"/>
          <p:cNvSpPr/>
          <p:nvPr/>
        </p:nvSpPr>
        <p:spPr>
          <a:xfrm>
            <a:off x="1619280" y="5013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Oval 45"/>
          <p:cNvSpPr/>
          <p:nvPr/>
        </p:nvSpPr>
        <p:spPr>
          <a:xfrm>
            <a:off x="3203640" y="450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46"/>
          <p:cNvSpPr/>
          <p:nvPr/>
        </p:nvSpPr>
        <p:spPr>
          <a:xfrm>
            <a:off x="900000" y="6093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pt-PT" sz="1800" spc="-1" strike="noStrike">
                <a:solidFill>
                  <a:srgbClr val="000000"/>
                </a:solidFill>
                <a:latin typeface="Tahoma"/>
              </a:rPr>
              <a:t>Пому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ћ</a:t>
            </a:r>
            <a:r>
              <a:rPr b="1" lang="pt-PT" sz="1800" spc="-1" strike="noStrike">
                <a:solidFill>
                  <a:srgbClr val="000000"/>
                </a:solidFill>
                <a:latin typeface="Tahoma"/>
              </a:rPr>
              <a:t>ења свести                                          Су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же</a:t>
            </a:r>
            <a:r>
              <a:rPr b="1" lang="pt-PT" sz="1800" spc="-1" strike="noStrike">
                <a:solidFill>
                  <a:srgbClr val="000000"/>
                </a:solidFill>
                <a:latin typeface="Tahoma"/>
              </a:rPr>
              <a:t>ња све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Oval 49"/>
          <p:cNvSpPr/>
          <p:nvPr/>
        </p:nvSpPr>
        <p:spPr>
          <a:xfrm>
            <a:off x="1763640" y="4653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Oval 50"/>
          <p:cNvSpPr/>
          <p:nvPr/>
        </p:nvSpPr>
        <p:spPr>
          <a:xfrm>
            <a:off x="1835280" y="494172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Oval 51"/>
          <p:cNvSpPr/>
          <p:nvPr/>
        </p:nvSpPr>
        <p:spPr>
          <a:xfrm>
            <a:off x="3059280" y="5445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Oval 52"/>
          <p:cNvSpPr/>
          <p:nvPr/>
        </p:nvSpPr>
        <p:spPr>
          <a:xfrm>
            <a:off x="1835280" y="5229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Oval 53"/>
          <p:cNvSpPr/>
          <p:nvPr/>
        </p:nvSpPr>
        <p:spPr>
          <a:xfrm>
            <a:off x="1619280" y="4437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Oval 54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Oval 55"/>
          <p:cNvSpPr/>
          <p:nvPr/>
        </p:nvSpPr>
        <p:spPr>
          <a:xfrm>
            <a:off x="2843280" y="5013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Oval 56"/>
          <p:cNvSpPr/>
          <p:nvPr/>
        </p:nvSpPr>
        <p:spPr>
          <a:xfrm>
            <a:off x="3059280" y="4292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4920" y="1557000"/>
            <a:ext cx="820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П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њ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способност усмеравања и од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вања псих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 енергије н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ређеној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информаци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од интереса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ВИГИЛНОСТ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усмеравање псих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 енергије са једне на другу информациј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ТЕНАЦИТЕТ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способност зад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вања псих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 енергије на информацији колико је то временски за одр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ни задата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еопходно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0" descr="attention"/>
          <p:cNvPicPr/>
          <p:nvPr/>
        </p:nvPicPr>
        <p:blipFill>
          <a:blip r:embed="rId1"/>
          <a:stretch/>
        </p:blipFill>
        <p:spPr>
          <a:xfrm>
            <a:off x="250920" y="3500280"/>
            <a:ext cx="19461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Ж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асивна пажња (невољна) – одвија се аутоматс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ктивира је информација која се намеће опажајној сфе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Јака драж, нагли прекид дражи, контраст између дражи и дру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Ж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ктивна пажња (вољна) – покретач: жеља, свесна вољна одлу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анифестација вољ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везана са: интересима, мотивацијом, организациј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Ж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бим пажње – способност запажања међусобно неповезаних појединости у кратком временском интервал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алност пажње – ефикасност концентрације у време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инамичка пажња – способност да се у оквиру једне делатности психичка енергија стално помера са једне информације на дру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1T21:26:51Z</dcterms:created>
  <dc:creator>Dusan</dc:creator>
  <dc:description/>
  <dc:language>en-US</dc:language>
  <cp:lastModifiedBy>nmuric91@gmail.com</cp:lastModifiedBy>
  <dcterms:modified xsi:type="dcterms:W3CDTF">2020-10-01T11:03:03Z</dcterms:modified>
  <cp:revision>84</cp:revision>
  <dc:subject/>
  <dc:title>OSNOVI PSIHOPATOLOGIJE</dc:title>
</cp:coreProperties>
</file>